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DF41-4DBC-4386-B54C-6437FB9CC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48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2366-ADC7-4F23-967F-2DD251413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064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A128A-2A78-4A27-B469-9238DE2BF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48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48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47297-9D4F-4B9F-B012-BE1051603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05B72-20A9-4695-A788-3E766CA423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BE9EC-D864-4C27-92E5-6BDE703978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20D3D-B7C7-447C-9314-E30A1A219D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BAC13-5C72-45D8-96F2-FF4C408BEB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91D74-6969-4C76-B14A-8A0472DB15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92BA2-AF98-4DEB-AF3D-69F7FE912A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D8F18-E391-4064-B06F-1EBCE5C848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52C0A-5026-428C-B392-22AD31EE8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064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D6FAF-F653-43C6-A32F-37C13BAB4D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1C1F1-AD8B-4640-8656-FBDCEDC118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48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A2F04-E585-43F4-86A8-69FC3B2036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064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EE088-14DA-4689-949D-F186B5AFE7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748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776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748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776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A59EC-4DAF-4B44-BB9C-E5759956D7E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1111-B027-4A25-8ECC-6D76A5F925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708-05BF-4112-BA21-B83008EAFF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C035-8AF4-4095-AC36-69AF38DA17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72F4-F06A-4E67-8667-963DE6BAE2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2528-1D1F-4A83-9F2B-23D5128084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69897-56C0-468B-B15F-BF42635DFA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2701-B84A-4DD7-979A-D78A4219FC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6B05-3C27-4423-BFC4-39DEFC42CA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064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C591-0C88-476D-8A7D-696D048216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6C03-33B7-4AEA-B963-98729F7F54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448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F0A3-E1CD-4DC1-BB46-CD9939F77E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064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25C-E50B-46CC-8BF5-8D3CBAADCC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748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1776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748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1776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1C36-1139-4FE7-A0C2-2381F5BFE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358C-5A4F-4DBC-8D9F-05F73BCC8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42E9-37F4-4E56-90CC-D199B4415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A3CD-BEFD-4089-920D-EBC07E9D7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CCEB-3722-4C94-A6FC-4532E6A32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064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B0B1E-CCEA-43A0-B441-226251D19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62122-40C5-4130-BBD0-B4823F5A2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36000" cy="1974960"/>
            <a:chOff x="0" y="0"/>
            <a:chExt cx="7236000" cy="197496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16840" cy="1049400"/>
            </a:xfrm>
            <a:prstGeom prst="pie">
              <a:avLst/>
            </a:pr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36000" cy="189720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5FDA5-2916-4BAA-BC53-E507DA0AF12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1720" cy="5937120"/>
            <a:chOff x="0" y="0"/>
            <a:chExt cx="8451720" cy="593712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77040" cy="3651120"/>
            </a:xfrm>
            <a:prstGeom prst="pie">
              <a:avLst/>
            </a:pr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1720" cy="585000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2F618-FE83-4A26-8D29-1AFC385B6ED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51720" cy="5937120"/>
            <a:chOff x="0" y="0"/>
            <a:chExt cx="8451720" cy="5937120"/>
          </a:xfrm>
        </p:grpSpPr>
        <p:sp>
          <p:nvSpPr>
            <p:cNvPr id="89" name=""/>
            <p:cNvSpPr/>
            <p:nvPr/>
          </p:nvSpPr>
          <p:spPr>
            <a:xfrm>
              <a:off x="0" y="2286000"/>
              <a:ext cx="8177040" cy="3651120"/>
            </a:xfrm>
            <a:prstGeom prst="pie">
              <a:avLst/>
            </a:pr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8451720" cy="585000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DAB77-1B58-430F-9C55-CD04E7B305C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347920" y="387360"/>
            <a:ext cx="525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Педагогические чтения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2276640"/>
            <a:ext cx="777744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6600cc"/>
                </a:solidFill>
                <a:latin typeface="Monotype Corsiva"/>
              </a:rPr>
              <a:t>«Личность педагога в пространствах современного образования»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2160360" cy="1695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056360" y="4824360"/>
            <a:ext cx="187164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124000" y="189000"/>
            <a:ext cx="6840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ритерии 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профессионализма   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                   педагог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1428840"/>
            <a:ext cx="7859880" cy="52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ъективные критер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ределяют, насколько учитель соответствует требованиям избранной професс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ая производительность труда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личество и качество, надежность продукта труда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стижение определенного статуса в профессии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мение решать разнообразные задачи обучения и воспит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убъективные критер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сколько профессия педагога соответствует требованиям человека, его мотивам, склонностям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сколько человек удовлетворен трудом в этой профессии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тойчивая профессионально-педагогическая направленность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нимание ценностных оснований профессии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вокупность необходимых профессионально-психологических качеств личности и д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944720" cy="16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274680"/>
            <a:ext cx="6707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ритерии профессионализма педагог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зультативные критерии: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остигает ли педагог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желаемых сегодня обществом результатов в педагогическом труде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Приоритетными результатами труда педагога являются качественные изменения, сдвиги, «приращения» в психическом (умственном и личностном) развитии учащихся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едагогу нужно знать показатели развития школьников, уметь диагностировать их наличный и потенциальный уровень, зону ближайшего развития и саморазвития учеников и д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оцессуальные критерии: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спользует ли педагог при достижении своих результатов социально приемлемые способы, приемы и технологии. Большое значение имеет то, как работал педагог, какие использовал профессиональные знания и умения, личные психологические качества (педагогическое мышление, педагогическую эмпатию), какова психологическая цена результата в виде затраты сил и времени учащегося и учителя и т.п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74120" y="189000"/>
            <a:ext cx="122544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ритерии профессионализма педагог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ормативные критерии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усвоил ли педагог нормы, правила избранной профессии и умеет ли воспроизводить ее высокие эталоны на уровне мастерства. Владение нормами профессиональной деятельности и общения, разработанными в науке и апробированными в практик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дивидуально-вариативны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ритер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роявляются в стремлении человека индивидуализировать свой труд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самореализовать в нем свои потребности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проявить в нем свою самобытность, развивать себя средствами професс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012000" y="2781360"/>
            <a:ext cx="2268360" cy="20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9640" y="274680"/>
            <a:ext cx="8147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ритерии профессионализма педагог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1628640"/>
            <a:ext cx="8686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ритерии наличного уровня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достиг ли педагог достаточно высокого уровня профессионализма. Педагог имеет наличный, актуальный уровень и личностные ресурсы профессионального разви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гностические критерии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меет ли специалист перспективы работы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ону своего ближайшего развити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тов ли он к принятию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фессионального опыта других людей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являет ли профессиональную открыт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2089080" cy="20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95280" y="18900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ритерии профессионализма педагог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1197000"/>
            <a:ext cx="84963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ритерии творческие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тремится ли педагог выйти за пределы своей профессии, преобразовать ее опыт, обогатить своим личным творческим вкладом. Сочетаемость профессиональной открытости, обучаемости и самостоятельности творчески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исков важно для педагогического профессионализ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ритерии социальной активности и конкурентоспособности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меет ли педагог заинтересовать общество результатами свое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руда, вступить в конкурентные отношения на рынке образовательных услу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ритерии профессиональной приверженности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умеет ли педагог соблюдать честь и достоинство педагогической профессии. Отсутствие замкнутости, корпоративности, противопоставления учительской профессии други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308720" y="2133720"/>
            <a:ext cx="1835280" cy="18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ипаж 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214200" y="928800"/>
            <a:ext cx="878688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дохновенный, увлекающийся, знающий море всего и ничего определённого. На уроке может рассказывать о чём угодно, а после уроков дети должны либо с репетитором, либо с родителями, либо сами до ночи делать уроки. Но, однако, любим - за бесшабашность, за оценки, которые ни с того ни с сего вылетают из рога изобилия, поднимая одного, веселя другого, порождая ложную уверенность у третьего. Его ученики шумят на уроках и в жизни, получают вкус к знанию вообще, но не способны к строгой систематической работе, любят что-либо отчебучивать и боготворят своего кумир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36600"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ипаж 2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71680"/>
            <a:ext cx="914400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как он ежедневно и ежевечернее страдает, думая о том, что необходимо подготовиться к урокам, что завтра 5 уроков, что нужно быть интересным, что надобно помнить, где что задано, где кого спросить. Но наслоившаяся усталость так и клонит ко сну. Телевизор и чаёк журчат так тепло и приветливо… Жизнь проходит, пролетает, и ничего никогда не будет, и, сомкнув очи, он засыпает. Наутро идёт в школу, пытаясь что-то вспомнить и мучительно боясь, что придут проверять, а урок будет сырой и тягучий, а он где-то в глубине мозга будет молча пришёптывать себе, что вот, мол, возьмусь, подготовлюсь, потрясу всех, стану сильным, новым, и всё будет хорошо. И найду, наконец, другую работу и начну получать не пособие по безработице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 настоящую зарплат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36600"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0004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ипаж 3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000080"/>
            <a:ext cx="91440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сё раз и навсегда разобрано по полочкам. Кого спросить - записано, с кем поговорить – помечено, что задать – продумано и изложено. Строг и справедлив. К новым веяниям относится спокойно. Всё новое всегда конспектирует. Пользуется авторитетом, спокоен, деловит, ответственен. Даёт детям только точные знания. Поддерживает ровные и строгие отношения с родителями учащихся. К собраниям готовится так же, как и к урокам: точно, ответственно, объективн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36600"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ипаж 4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785880"/>
            <a:ext cx="914400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нает детей, готовит из них участников конкурсов по предмету, вместе с ними допоздна задерживается в школе, привлекая к своему предмету. Если на урок к учителю приходят проверяющие, ребята всей душой болеют за любимого учителя и стараются быть на высоте. Он любит из библиотеки, с курсов повышения квалификации привозить профессиональные новшества и использовать их в работе. Каждый год составляет новый конспект урока, с удовольствием ходит с детьми на экскурсии и в походы, организовывает научную, поисковую, проектную деятельность учащихс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36600"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274680"/>
            <a:ext cx="8229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ипаж 5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928800"/>
            <a:ext cx="822960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каждой параллели составляет авторскую образовательную программу, тесты, терминологический диктант, обучающие игры; разрабатывает систему технических средств, средств наглядности: готовит презентации уроков, предметно-значимые проекты, создаёт собственную систему мотивации к его предмету даже те, кто не хочет учиться, относятся с почтением. Хорошей оценкой у него гордятся. Выпускники запоминают его на всю жизнь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36600"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9280" y="1368360"/>
            <a:ext cx="8507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Monotype Corsiva"/>
              </a:rPr>
              <a:t>Личность</a:t>
            </a:r>
            <a:r>
              <a:rPr b="0" lang="ru-RU" sz="3600" spc="-1" strike="noStrike">
                <a:solidFill>
                  <a:srgbClr val="ff0066"/>
                </a:solidFill>
                <a:latin typeface="Monotype Corsiva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Monotype Corsiva"/>
              </a:rPr>
              <a:t>человеческий индивид,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Monotype Corsiva"/>
              </a:rPr>
              <a:t>являющийся субъектом  сознательной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Monotype Corsiva"/>
              </a:rPr>
              <a:t>деятельности,  обладающий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Monotype Corsiva"/>
              </a:rPr>
              <a:t>совокупностью социально значимых черт,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Monotype Corsiva"/>
              </a:rPr>
              <a:t>свойств и качеств, которые он реализует в общественной жизн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500280"/>
            <a:ext cx="82296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амооценк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" spc="-1" strike="noStrike">
                <a:solidFill>
                  <a:srgbClr val="0099cc"/>
                </a:solidFill>
                <a:latin typeface="Tahoma"/>
              </a:rPr>
              <a:t>     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" spc="-1" strike="noStrike">
                <a:solidFill>
                  <a:srgbClr val="0099cc"/>
                </a:solidFill>
                <a:latin typeface="Tahoma"/>
              </a:rPr>
              <a:t>         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  <a:ea typeface="Microsoft YaHei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Microsoft YaHei"/>
              </a:rPr>
              <a:t>Оценка индивида                   Оценка, которую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дает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другими людьми                         себе сам челове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Monotype Corsiv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Monotype Corsiva"/>
              </a:rPr>
              <a:t>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843280" y="3998880"/>
            <a:ext cx="720720" cy="517680"/>
          </a:xfrm>
          <a:prstGeom prst="line">
            <a:avLst/>
          </a:prstGeom>
          <a:ln cap="sq"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645160" y="3998880"/>
            <a:ext cx="660240" cy="588960"/>
          </a:xfrm>
          <a:prstGeom prst="line">
            <a:avLst/>
          </a:prstGeom>
          <a:ln cap="sq"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2924280"/>
            <a:ext cx="924120" cy="2808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488360" y="189000"/>
            <a:ext cx="1411200" cy="17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274680"/>
            <a:ext cx="82296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ипаж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42920" y="714240"/>
            <a:ext cx="885816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зная речь, организация учебного процесса в основном через самостоятельный поиск информации учащимися. Много задаёт, не пользуется школьным учебником, брезглив по отношению к неуспевающим, на педсоветах требует наказать, отчислить, изменить политику государства. Планов не сдаёт, от классного руководства отказывается вплоть до увольнения. Родителям желчно сообщает о недостатках и проступках их чад, о достоинствах говорит вяло и всегда повторяет забитую истину, что на «5» знает Бог, на «4»- он, а вы, господа, должны радоваться «3». Игнорирует коллективные праздничные события. Родители стараются, чтобы их ребёнок попал к нему в класс, п.ч. знания даёт, нарушать дисциплину не разрешает, и дети, которые у него учатся, как-то подтягиваются, становятся серьёзнее и строж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36600"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ипаж 7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071720"/>
            <a:ext cx="8229600" cy="50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уроках похож на дирижёра или певца: постоянно вслушивается в тембр своего голоса, следит за своими позами. Умеет всех поддержать, но только словом. Не отягощает свой малопросвещённый ум раздумьями о методическом сопровождении предмета, забывает ставить оценки, любит объяснять новый материал, п.ч. это даёт ему возможность громко и якобы взволнованно поговорить. Труд педагога ему тошен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36600"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рофессиональная зрелость личности учителя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258920" y="1341360"/>
            <a:ext cx="742788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Необходимые умения для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оявления, выражения и саморазвития личности учител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нимать четкую и действенную гражданскую позицию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являть педагогические способности (понимать и изучать другого человека, сопереживать ему, вставать на его точку зрения; воздействовать не только на поведение и поступки ученика, но и на его мотивы, цели.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правлять своим эмоциональным состоянием, придавая ему конструктивный,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 не деструктивный, разрушающий характер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ределять особенности своего стиля и использовать природные данные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спринимать позитивные возможности учащихся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уществлять творческий поиск, переходить от уровня мастерства к собственно новаторскому уровню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36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1908000" cy="17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1258920" y="1341360"/>
            <a:ext cx="742788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Создание прекрасных учительских глаз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Как много любви, обаяния в вас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И каждая звездочка – солнце, тепло,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И с каждой надежно,от каждой – светло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1280" indent="-3366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1908000" cy="17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347920" y="387360"/>
            <a:ext cx="525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2276640"/>
            <a:ext cx="777744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6600cc"/>
                </a:solidFill>
                <a:latin typeface="Monotype Corsiva"/>
              </a:rPr>
              <a:t>Спасибо за внимание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2160360" cy="16956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840360" y="4464000"/>
            <a:ext cx="2232360" cy="21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Tahoma"/>
              </a:rPr>
              <a:t>Личность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Monotype Corsiva"/>
              </a:rPr>
              <a:t>Отличается самостоятельностью в поступках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Monotype Corsiva"/>
              </a:rPr>
              <a:t>Способна нести ответственность и решать пробл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Monotype Corsiva"/>
              </a:rPr>
              <a:t>Контролирует поведение, обладает силой вол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Monotype Corsiva"/>
              </a:rPr>
              <a:t>Способна изменяться с течением времен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9280" y="274680"/>
            <a:ext cx="6840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ЛИЧНОСТЬ   ПЕДАГО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989000"/>
            <a:ext cx="81471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уровень профессионализ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характер, внутренние каче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общая эрудиция, уровень общей культу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внешний облик (стиль, одежда, прическа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манеры (мимика, жесты, речь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особая жизненная позиция</a:t>
            </a:r>
            <a:br>
              <a:rPr sz="3200"/>
            </a:b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1052640"/>
            <a:ext cx="2089080" cy="718920"/>
          </a:xfrm>
          <a:prstGeom prst="upArrow">
            <a:avLst>
              <a:gd name="adj1" fmla="val 50000"/>
              <a:gd name="adj2" fmla="val 51421"/>
            </a:avLst>
          </a:prstGeom>
          <a:solidFill>
            <a:srgbClr val="0000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772320" y="0"/>
            <a:ext cx="2371680" cy="1803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308720" y="3716280"/>
            <a:ext cx="1629000" cy="24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340000" y="1052640"/>
            <a:ext cx="635796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Все профессии - это заговор специалистов против   профанов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Бернард Шоу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03364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50920" y="333360"/>
            <a:ext cx="846432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      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од профессионализмом  понимается особое свойство людей систематически, эффективно и надежно выполнять сложную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деятельность в самых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азнообразных условиях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642960" y="3571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Профессионализм учител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9280" y="642960"/>
            <a:ext cx="878544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Для приобретения профессионализма необходи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Monotype Corsiva"/>
              </a:rPr>
              <a:t>способност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Monotype Corsiva"/>
              </a:rPr>
              <a:t>           </a:t>
            </a:r>
            <a:r>
              <a:rPr b="0" lang="ru-RU" sz="3600" spc="-1" strike="noStrike">
                <a:solidFill>
                  <a:srgbClr val="6600cc"/>
                </a:solidFill>
                <a:latin typeface="Monotype Corsiva"/>
              </a:rPr>
              <a:t>желание и характе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Monotype Corsiva"/>
              </a:rPr>
              <a:t>                    </a:t>
            </a:r>
            <a:r>
              <a:rPr b="0" lang="ru-RU" sz="3600" spc="-1" strike="noStrike">
                <a:solidFill>
                  <a:srgbClr val="6600cc"/>
                </a:solidFill>
                <a:latin typeface="Monotype Corsiva"/>
              </a:rPr>
              <a:t>готовность учиться 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Monotype Corsiva"/>
              </a:rPr>
              <a:t>                               </a:t>
            </a:r>
            <a:r>
              <a:rPr b="0" lang="ru-RU" sz="3600" spc="-1" strike="noStrike">
                <a:solidFill>
                  <a:srgbClr val="6600cc"/>
                </a:solidFill>
                <a:latin typeface="Monotype Corsiva"/>
              </a:rPr>
              <a:t>совершенствовать свое                     </a:t>
            </a:r>
            <a:r>
              <a:rPr b="0" lang="ru-RU" sz="3600" spc="-1" strike="noStrike">
                <a:solidFill>
                  <a:srgbClr val="6600cc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6600cc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6600cc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6600cc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6600cc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6600cc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6600cc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6600cc"/>
                </a:solidFill>
                <a:latin typeface="Monotype Corsiva"/>
              </a:rPr>
              <a:t>мастерств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270920" y="4984920"/>
            <a:ext cx="187308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иды профессиональной компетентности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197000"/>
            <a:ext cx="89647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пециальная (деятельностная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характеризует владен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ятельностью на высоком профессиональном уровне и включает не только наличие специальных знаний, но и умение применить их на практик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циальна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характеризует владение способами совместной профессиональной деятельности и сотрудничества, принятыми в профессиональном сообществе приемами профессионального общ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ичностная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арактеризует владение способами самовыражения и саморазвития, средствами противостояния профессиональной деформации. Сюда же относят способность специалиста планировать свою профессиональную деятельность, самостоятельно принимать решения, видеть проблем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ндивидуальна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характеризует владение приемами саморегуляции, готовность к профессиональному росту, неподверженность профессиональному старению, наличие устойчивой профессиональной мотив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36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14200" y="1000080"/>
            <a:ext cx="8643960" cy="54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Профессиональная компетентность педагог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это многофакторное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вление, включающее в себя систему теоретических знаний учителя 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ов их применения в конкретных педагогических ситуациях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ностные ориентации педагога, а также интегративные показатели ег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ультуры (речь, стиль общения, отношение к себе и своей деятельности, к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межным областям знания и др.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0:44:12Z</dcterms:created>
  <dc:creator>Маргарита</dc:creator>
  <dc:description/>
  <dc:language>en-US</dc:language>
  <cp:lastModifiedBy/>
  <cp:lastPrinted>2023-01-11T09:02:49Z</cp:lastPrinted>
  <dcterms:modified xsi:type="dcterms:W3CDTF">2023-01-11T09:45:07Z</dcterms:modified>
  <cp:revision>24</cp:revision>
  <dc:subject/>
  <dc:title>Методический сов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60000000000010243100207f6000400038000</vt:lpwstr>
  </property>
</Properties>
</file>