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13.png" ContentType="image/pn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77D5A-D427-44EC-AB7E-346CB675F2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3CB7F-7BDA-403F-BEB2-C075BDA6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F90CE-98D7-46AE-B19E-23B4011C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AB6E8-1D13-4346-A3AB-B8AC94A413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461EB-44D3-4058-B045-9AC4A479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7B132-0267-43C4-A58E-955A0B4F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B0265-793C-48BD-BD97-22D9ED66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21B2E-3182-4A2D-9860-15733C921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28F5C-FC39-4DB5-A2C5-77A57F5D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8A012-44AB-4F59-A9F2-A9927A41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40A76-0D46-466D-B119-6FE8C1CD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68D87-26BB-496B-AD4D-C23A35AF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80B9-3198-4D91-9A17-C2FEEE5980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2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189000"/>
            <a:ext cx="822960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0504d"/>
                </a:solidFill>
                <a:latin typeface="Calibri"/>
                <a:ea typeface="Microsoft YaHei"/>
              </a:rPr>
              <a:t>«Семья и школа- партнеры в воспитании ребенка»</a:t>
            </a: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"/>
          <p:cNvSpPr/>
          <p:nvPr/>
        </p:nvSpPr>
        <p:spPr>
          <a:xfrm>
            <a:off x="5581440" y="4581360"/>
            <a:ext cx="3547080" cy="22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  <a:ea typeface="DejaVu Sans"/>
              </a:rPr>
              <a:t>Подготовила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  <a:ea typeface="DejaVu Sans"/>
              </a:rPr>
              <a:t>директор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  <a:ea typeface="DejaVu Sans"/>
              </a:rPr>
              <a:t>МОБУ «Горная ООШ»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  <a:ea typeface="DejaVu Sans"/>
              </a:rPr>
              <a:t>Морозкина М.Г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"/>
          <p:cNvSpPr/>
          <p:nvPr/>
        </p:nvSpPr>
        <p:spPr>
          <a:xfrm>
            <a:off x="5643720" y="5214960"/>
            <a:ext cx="20714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15000"/>
              </a:lnSpc>
              <a:spcBef>
                <a:spcPts val="814"/>
              </a:spcBef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164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164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"/>
          <p:cNvSpPr/>
          <p:nvPr/>
        </p:nvSpPr>
        <p:spPr>
          <a:xfrm>
            <a:off x="95400" y="142920"/>
            <a:ext cx="59436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"/>
          <p:cNvSpPr/>
          <p:nvPr/>
        </p:nvSpPr>
        <p:spPr>
          <a:xfrm>
            <a:off x="95400" y="142920"/>
            <a:ext cx="59436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"/>
          <p:cNvSpPr/>
          <p:nvPr/>
        </p:nvSpPr>
        <p:spPr>
          <a:xfrm>
            <a:off x="95400" y="142920"/>
            <a:ext cx="59436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"/>
          <p:cNvSpPr/>
          <p:nvPr/>
        </p:nvSpPr>
        <p:spPr>
          <a:xfrm>
            <a:off x="95400" y="142920"/>
            <a:ext cx="59436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0"/>
            <a:ext cx="82296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мья- колыбель духовного рождения человека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"/>
          <p:cNvSpPr/>
          <p:nvPr/>
        </p:nvSpPr>
        <p:spPr>
          <a:xfrm>
            <a:off x="428760" y="1143000"/>
            <a:ext cx="822960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Calibri"/>
              </a:rPr>
              <a:t>В семейном кругу мы с вами растем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Calibri"/>
              </a:rPr>
              <a:t>Основа основ – родительский дом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Calibri"/>
              </a:rPr>
              <a:t>В семейном кругу все корни твои,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Calibri"/>
              </a:rPr>
              <a:t>И в жизнь ты выходишь из этой семьи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Calibri"/>
              </a:rPr>
              <a:t>В семейном кругу мы жизнь создаем,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Calibri"/>
              </a:rPr>
              <a:t>Основа основ –родительский дом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08400" y="2719440"/>
            <a:ext cx="4492800" cy="426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60280"/>
            <a:ext cx="562608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c0504d"/>
                </a:solidFill>
                <a:uFillTx/>
                <a:latin typeface="Calibri"/>
                <a:ea typeface="Microsoft YaHei"/>
              </a:rPr>
              <a:t>Семья и школа</a:t>
            </a:r>
            <a:r>
              <a:rPr b="1" lang="ru-RU" sz="2000" spc="-1" strike="noStrike">
                <a:solidFill>
                  <a:srgbClr val="c0504d"/>
                </a:solidFill>
                <a:latin typeface="Calibri"/>
                <a:ea typeface="Microsoft YaHei"/>
              </a:rPr>
              <a:t> – </a:t>
            </a:r>
            <a:br>
              <a:rPr sz="2000"/>
            </a:br>
            <a:r>
              <a:rPr b="1" i="1" lang="ru-RU" sz="2000" spc="-1" strike="noStrike">
                <a:solidFill>
                  <a:srgbClr val="1f497d"/>
                </a:solidFill>
                <a:latin typeface="Calibri"/>
                <a:ea typeface="Microsoft YaHei"/>
              </a:rPr>
              <a:t>это трудовые коллективы, </a:t>
            </a:r>
            <a:br>
              <a:rPr sz="2000"/>
            </a:br>
            <a:r>
              <a:rPr b="1" i="1" lang="ru-RU" sz="2000" spc="-1" strike="noStrike">
                <a:solidFill>
                  <a:srgbClr val="1f497d"/>
                </a:solidFill>
                <a:latin typeface="Calibri"/>
                <a:ea typeface="Microsoft YaHei"/>
              </a:rPr>
              <a:t>моральная опора, основа для всестороннего </a:t>
            </a:r>
            <a:br>
              <a:rPr sz="2000"/>
            </a:br>
            <a:r>
              <a:rPr b="1" i="1" lang="ru-RU" sz="2000" spc="-1" strike="noStrike">
                <a:solidFill>
                  <a:srgbClr val="1f497d"/>
                </a:solidFill>
                <a:latin typeface="Calibri"/>
                <a:ea typeface="Microsoft YaHei"/>
              </a:rPr>
              <a:t>развития личности ребенка, многообразная</a:t>
            </a:r>
            <a:br>
              <a:rPr sz="2000"/>
            </a:br>
            <a:r>
              <a:rPr b="1" i="1" lang="ru-RU" sz="2000" spc="-1" strike="noStrike">
                <a:solidFill>
                  <a:srgbClr val="1f497d"/>
                </a:solidFill>
                <a:latin typeface="Calibri"/>
                <a:ea typeface="Microsoft YaHei"/>
              </a:rPr>
              <a:t> система отношений с родителями, родными, </a:t>
            </a:r>
            <a:br>
              <a:rPr sz="2000"/>
            </a:br>
            <a:r>
              <a:rPr b="1" i="1" lang="ru-RU" sz="2000" spc="-1" strike="noStrike">
                <a:solidFill>
                  <a:srgbClr val="1f497d"/>
                </a:solidFill>
                <a:latin typeface="Calibri"/>
                <a:ea typeface="Microsoft YaHei"/>
              </a:rPr>
              <a:t>учителями, одноклассниками.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Microsoft YaHe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17520" y="2560680"/>
            <a:ext cx="5162400" cy="401616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5508720" y="476280"/>
            <a:ext cx="3531600" cy="2805120"/>
            <a:chOff x="5508720" y="476280"/>
            <a:chExt cx="3531600" cy="2805120"/>
          </a:xfrm>
        </p:grpSpPr>
        <p:sp>
          <p:nvSpPr>
            <p:cNvPr id="54" name=""/>
            <p:cNvSpPr/>
            <p:nvPr/>
          </p:nvSpPr>
          <p:spPr>
            <a:xfrm>
              <a:off x="5730480" y="665280"/>
              <a:ext cx="2254320" cy="2401920"/>
            </a:xfrm>
            <a:custGeom>
              <a:avLst/>
              <a:gdLst/>
              <a:ahLst/>
              <a:rect l="l" t="t" r="r" b="b"/>
              <a:pathLst>
                <a:path w="6270" h="3831">
                  <a:moveTo>
                    <a:pt x="6270" y="3256"/>
                  </a:moveTo>
                  <a:lnTo>
                    <a:pt x="3136" y="3338"/>
                  </a:lnTo>
                  <a:lnTo>
                    <a:pt x="1" y="-493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  <a:effectLst>
              <a:outerShdw dist="37674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508720" y="669960"/>
              <a:ext cx="1048680" cy="834840"/>
            </a:xfrm>
            <a:custGeom>
              <a:avLst/>
              <a:gdLst/>
              <a:ahLst/>
              <a:rect l="l" t="t" r="r" b="b"/>
              <a:pathLst>
                <a:path w="2920" h="1655">
                  <a:moveTo>
                    <a:pt x="2920" y="1124"/>
                  </a:moveTo>
                  <a:lnTo>
                    <a:pt x="1461" y="1162"/>
                  </a:lnTo>
                  <a:lnTo>
                    <a:pt x="1" y="-493"/>
                  </a:lnTo>
                  <a:close/>
                </a:path>
              </a:pathLst>
            </a:custGeom>
            <a:solidFill>
              <a:srgbClr val="7a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730480" y="3193920"/>
              <a:ext cx="2254320" cy="87480"/>
            </a:xfrm>
            <a:prstGeom prst="rect">
              <a:avLst/>
            </a:prstGeom>
            <a:solidFill>
              <a:srgbClr val="7a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167960" y="681120"/>
              <a:ext cx="1034280" cy="831600"/>
            </a:xfrm>
            <a:custGeom>
              <a:avLst/>
              <a:gdLst/>
              <a:ahLst/>
              <a:rect l="l" t="t" r="r" b="b"/>
              <a:pathLst>
                <a:path w="2881" h="1651">
                  <a:moveTo>
                    <a:pt x="2881" y="1120"/>
                  </a:moveTo>
                  <a:lnTo>
                    <a:pt x="1441" y="1158"/>
                  </a:lnTo>
                  <a:lnTo>
                    <a:pt x="1" y="-493"/>
                  </a:lnTo>
                  <a:close/>
                </a:path>
              </a:pathLst>
            </a:custGeom>
            <a:solidFill>
              <a:srgbClr val="7a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612840" y="1944720"/>
              <a:ext cx="506160" cy="112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42920" y="1730520"/>
              <a:ext cx="21960" cy="907920"/>
            </a:xfrm>
            <a:custGeom>
              <a:avLst/>
              <a:gdLst/>
              <a:ahLst/>
              <a:rect l="l" t="t" r="r" b="b"/>
              <a:pathLst>
                <a:path w="65" h="1756">
                  <a:moveTo>
                    <a:pt x="65" y="1262"/>
                  </a:moveTo>
                  <a:lnTo>
                    <a:pt x="33" y="1263"/>
                  </a:lnTo>
                  <a:lnTo>
                    <a:pt x="1" y="-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95800" y="1730520"/>
              <a:ext cx="456840" cy="23760"/>
            </a:xfrm>
            <a:custGeom>
              <a:avLst/>
              <a:gdLst/>
              <a:ahLst/>
              <a:rect l="l" t="t" r="r" b="b"/>
              <a:pathLst>
                <a:path w="1215" h="528">
                  <a:moveTo>
                    <a:pt x="1215" y="20"/>
                  </a:moveTo>
                  <a:lnTo>
                    <a:pt x="639" y="35"/>
                  </a:lnTo>
                  <a:lnTo>
                    <a:pt x="1" y="-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995800" y="1743120"/>
              <a:ext cx="16920" cy="909720"/>
            </a:xfrm>
            <a:custGeom>
              <a:avLst/>
              <a:gdLst/>
              <a:ahLst/>
              <a:rect l="l" t="t" r="r" b="b"/>
              <a:pathLst>
                <a:path w="56" h="1759">
                  <a:moveTo>
                    <a:pt x="56" y="1265"/>
                  </a:moveTo>
                  <a:lnTo>
                    <a:pt x="28" y="1266"/>
                  </a:lnTo>
                  <a:lnTo>
                    <a:pt x="1" y="-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5160" y="2627280"/>
              <a:ext cx="461520" cy="25560"/>
            </a:xfrm>
            <a:custGeom>
              <a:avLst/>
              <a:gdLst/>
              <a:ahLst/>
              <a:rect l="l" t="t" r="r" b="b"/>
              <a:pathLst>
                <a:path w="1231" h="531">
                  <a:moveTo>
                    <a:pt x="1231" y="22"/>
                  </a:moveTo>
                  <a:lnTo>
                    <a:pt x="644" y="38"/>
                  </a:lnTo>
                  <a:lnTo>
                    <a:pt x="1" y="-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08400" y="1994040"/>
              <a:ext cx="439200" cy="25200"/>
            </a:xfrm>
            <a:custGeom>
              <a:avLst/>
              <a:gdLst/>
              <a:ahLst/>
              <a:rect l="l" t="t" r="r" b="b"/>
              <a:pathLst>
                <a:path w="1180" h="531">
                  <a:moveTo>
                    <a:pt x="1180" y="23"/>
                  </a:moveTo>
                  <a:lnTo>
                    <a:pt x="615" y="38"/>
                  </a:lnTo>
                  <a:lnTo>
                    <a:pt x="1" y="-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08400" y="2317680"/>
              <a:ext cx="439200" cy="25560"/>
            </a:xfrm>
            <a:custGeom>
              <a:avLst/>
              <a:gdLst/>
              <a:ahLst/>
              <a:rect l="l" t="t" r="r" b="b"/>
              <a:pathLst>
                <a:path w="1180" h="531">
                  <a:moveTo>
                    <a:pt x="1180" y="23"/>
                  </a:moveTo>
                  <a:lnTo>
                    <a:pt x="615" y="38"/>
                  </a:lnTo>
                  <a:lnTo>
                    <a:pt x="1" y="-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11440" y="1758960"/>
              <a:ext cx="21960" cy="868320"/>
            </a:xfrm>
            <a:custGeom>
              <a:avLst/>
              <a:gdLst/>
              <a:ahLst/>
              <a:rect l="l" t="t" r="r" b="b"/>
              <a:pathLst>
                <a:path w="65" h="1702">
                  <a:moveTo>
                    <a:pt x="65" y="1208"/>
                  </a:moveTo>
                  <a:lnTo>
                    <a:pt x="33" y="1209"/>
                  </a:lnTo>
                  <a:lnTo>
                    <a:pt x="1" y="-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704360" y="1730520"/>
              <a:ext cx="18720" cy="907920"/>
            </a:xfrm>
            <a:custGeom>
              <a:avLst/>
              <a:gdLst/>
              <a:ahLst/>
              <a:rect l="l" t="t" r="r" b="b"/>
              <a:pathLst>
                <a:path w="57" h="1756">
                  <a:moveTo>
                    <a:pt x="57" y="1262"/>
                  </a:moveTo>
                  <a:lnTo>
                    <a:pt x="29" y="1263"/>
                  </a:lnTo>
                  <a:lnTo>
                    <a:pt x="1" y="-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256880" y="1730520"/>
              <a:ext cx="456840" cy="23760"/>
            </a:xfrm>
            <a:custGeom>
              <a:avLst/>
              <a:gdLst/>
              <a:ahLst/>
              <a:rect l="l" t="t" r="r" b="b"/>
              <a:pathLst>
                <a:path w="1215" h="528">
                  <a:moveTo>
                    <a:pt x="1215" y="20"/>
                  </a:moveTo>
                  <a:lnTo>
                    <a:pt x="639" y="35"/>
                  </a:lnTo>
                  <a:lnTo>
                    <a:pt x="1" y="-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56880" y="1743120"/>
              <a:ext cx="17280" cy="909720"/>
            </a:xfrm>
            <a:custGeom>
              <a:avLst/>
              <a:gdLst/>
              <a:ahLst/>
              <a:rect l="l" t="t" r="r" b="b"/>
              <a:pathLst>
                <a:path w="56" h="1759">
                  <a:moveTo>
                    <a:pt x="56" y="1265"/>
                  </a:moveTo>
                  <a:lnTo>
                    <a:pt x="28" y="1266"/>
                  </a:lnTo>
                  <a:lnTo>
                    <a:pt x="1" y="-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269840" y="2627280"/>
              <a:ext cx="453600" cy="25560"/>
            </a:xfrm>
            <a:custGeom>
              <a:avLst/>
              <a:gdLst/>
              <a:ahLst/>
              <a:rect l="l" t="t" r="r" b="b"/>
              <a:pathLst>
                <a:path w="1212" h="531">
                  <a:moveTo>
                    <a:pt x="1212" y="22"/>
                  </a:moveTo>
                  <a:lnTo>
                    <a:pt x="633" y="38"/>
                  </a:lnTo>
                  <a:lnTo>
                    <a:pt x="1" y="-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275960" y="1994040"/>
              <a:ext cx="429840" cy="25200"/>
            </a:xfrm>
            <a:custGeom>
              <a:avLst/>
              <a:gdLst/>
              <a:ahLst/>
              <a:rect l="l" t="t" r="r" b="b"/>
              <a:pathLst>
                <a:path w="1156" h="531">
                  <a:moveTo>
                    <a:pt x="1156" y="23"/>
                  </a:moveTo>
                  <a:lnTo>
                    <a:pt x="601" y="38"/>
                  </a:lnTo>
                  <a:lnTo>
                    <a:pt x="1" y="-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275960" y="2317680"/>
              <a:ext cx="429840" cy="25560"/>
            </a:xfrm>
            <a:custGeom>
              <a:avLst/>
              <a:gdLst/>
              <a:ahLst/>
              <a:rect l="l" t="t" r="r" b="b"/>
              <a:pathLst>
                <a:path w="1156" h="531">
                  <a:moveTo>
                    <a:pt x="1156" y="23"/>
                  </a:moveTo>
                  <a:lnTo>
                    <a:pt x="601" y="38"/>
                  </a:lnTo>
                  <a:lnTo>
                    <a:pt x="1" y="-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472880" y="1758960"/>
              <a:ext cx="21960" cy="868320"/>
            </a:xfrm>
            <a:custGeom>
              <a:avLst/>
              <a:gdLst/>
              <a:ahLst/>
              <a:rect l="l" t="t" r="r" b="b"/>
              <a:pathLst>
                <a:path w="66" h="1702">
                  <a:moveTo>
                    <a:pt x="66" y="1208"/>
                  </a:moveTo>
                  <a:lnTo>
                    <a:pt x="33" y="1209"/>
                  </a:lnTo>
                  <a:lnTo>
                    <a:pt x="1" y="-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103160" y="1701720"/>
              <a:ext cx="16920" cy="46080"/>
            </a:xfrm>
            <a:custGeom>
              <a:avLst/>
              <a:gdLst/>
              <a:ahLst/>
              <a:rect l="l" t="t" r="r" b="b"/>
              <a:pathLst>
                <a:path w="56" h="560">
                  <a:moveTo>
                    <a:pt x="56" y="66"/>
                  </a:moveTo>
                  <a:lnTo>
                    <a:pt x="28" y="67"/>
                  </a:lnTo>
                  <a:lnTo>
                    <a:pt x="1" y="-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612840" y="1441440"/>
              <a:ext cx="509040" cy="255600"/>
            </a:xfrm>
            <a:custGeom>
              <a:avLst/>
              <a:gdLst/>
              <a:ahLst/>
              <a:rect l="l" t="t" r="r" b="b"/>
              <a:pathLst>
                <a:path w="1422" h="850">
                  <a:moveTo>
                    <a:pt x="1422" y="339"/>
                  </a:moveTo>
                  <a:lnTo>
                    <a:pt x="712" y="357"/>
                  </a:lnTo>
                  <a:lnTo>
                    <a:pt x="1" y="-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12840" y="1701720"/>
              <a:ext cx="16920" cy="61920"/>
            </a:xfrm>
            <a:custGeom>
              <a:avLst/>
              <a:gdLst/>
              <a:ahLst/>
              <a:rect l="l" t="t" r="r" b="b"/>
              <a:pathLst>
                <a:path w="56" h="582">
                  <a:moveTo>
                    <a:pt x="56" y="88"/>
                  </a:moveTo>
                  <a:lnTo>
                    <a:pt x="28" y="89"/>
                  </a:lnTo>
                  <a:lnTo>
                    <a:pt x="1" y="-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27240" y="1738440"/>
              <a:ext cx="494640" cy="25200"/>
            </a:xfrm>
            <a:custGeom>
              <a:avLst/>
              <a:gdLst/>
              <a:ahLst/>
              <a:rect l="l" t="t" r="r" b="b"/>
              <a:pathLst>
                <a:path w="1315" h="531">
                  <a:moveTo>
                    <a:pt x="1315" y="21"/>
                  </a:moveTo>
                  <a:lnTo>
                    <a:pt x="692" y="38"/>
                  </a:lnTo>
                  <a:lnTo>
                    <a:pt x="1" y="-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60520" y="1457280"/>
              <a:ext cx="18720" cy="289080"/>
            </a:xfrm>
            <a:custGeom>
              <a:avLst/>
              <a:gdLst/>
              <a:ahLst/>
              <a:rect l="l" t="t" r="r" b="b"/>
              <a:pathLst>
                <a:path w="57" h="897">
                  <a:moveTo>
                    <a:pt x="57" y="403"/>
                  </a:moveTo>
                  <a:lnTo>
                    <a:pt x="29" y="404"/>
                  </a:lnTo>
                  <a:lnTo>
                    <a:pt x="1" y="-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65200" y="1527120"/>
              <a:ext cx="198000" cy="227160"/>
            </a:xfrm>
            <a:custGeom>
              <a:avLst/>
              <a:gdLst/>
              <a:ahLst/>
              <a:rect l="l" t="t" r="r" b="b"/>
              <a:pathLst>
                <a:path w="555" h="811">
                  <a:moveTo>
                    <a:pt x="555" y="310"/>
                  </a:moveTo>
                  <a:lnTo>
                    <a:pt x="278" y="318"/>
                  </a:lnTo>
                  <a:lnTo>
                    <a:pt x="1" y="-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85920" y="1523880"/>
              <a:ext cx="191520" cy="230400"/>
            </a:xfrm>
            <a:custGeom>
              <a:avLst/>
              <a:gdLst/>
              <a:ahLst/>
              <a:rect l="l" t="t" r="r" b="b"/>
              <a:pathLst>
                <a:path w="541" h="815">
                  <a:moveTo>
                    <a:pt x="541" y="315"/>
                  </a:moveTo>
                  <a:lnTo>
                    <a:pt x="271" y="322"/>
                  </a:lnTo>
                  <a:lnTo>
                    <a:pt x="1" y="-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74760" y="476280"/>
              <a:ext cx="212400" cy="193680"/>
            </a:xfrm>
            <a:custGeom>
              <a:avLst/>
              <a:gdLst/>
              <a:ahLst/>
              <a:rect l="l" t="t" r="r" b="b"/>
              <a:pathLst>
                <a:path w="595" h="764">
                  <a:moveTo>
                    <a:pt x="595" y="263"/>
                  </a:moveTo>
                  <a:lnTo>
                    <a:pt x="298" y="271"/>
                  </a:lnTo>
                  <a:lnTo>
                    <a:pt x="1" y="-49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9320" y="1500120"/>
              <a:ext cx="299880" cy="407880"/>
            </a:xfrm>
            <a:custGeom>
              <a:avLst/>
              <a:gdLst/>
              <a:ahLst/>
              <a:rect l="l" t="t" r="r" b="b"/>
              <a:pathLst>
                <a:path w="841" h="1062">
                  <a:moveTo>
                    <a:pt x="841" y="558"/>
                  </a:moveTo>
                  <a:lnTo>
                    <a:pt x="421" y="569"/>
                  </a:lnTo>
                  <a:lnTo>
                    <a:pt x="1" y="-49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87040" y="1717560"/>
              <a:ext cx="132840" cy="281160"/>
            </a:xfrm>
            <a:custGeom>
              <a:avLst/>
              <a:gdLst/>
              <a:ahLst/>
              <a:rect l="l" t="t" r="r" b="b"/>
              <a:pathLst>
                <a:path w="374" h="886">
                  <a:moveTo>
                    <a:pt x="374" y="388"/>
                  </a:moveTo>
                  <a:lnTo>
                    <a:pt x="187" y="393"/>
                  </a:lnTo>
                  <a:lnTo>
                    <a:pt x="1" y="-493"/>
                  </a:lnTo>
                  <a:close/>
                </a:path>
              </a:pathLst>
            </a:custGeom>
            <a:solidFill>
              <a:srgbClr val="d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16400" y="1852560"/>
              <a:ext cx="272520" cy="201600"/>
            </a:xfrm>
            <a:custGeom>
              <a:avLst/>
              <a:gdLst/>
              <a:ahLst/>
              <a:rect l="l" t="t" r="r" b="b"/>
              <a:pathLst>
                <a:path w="766" h="776">
                  <a:moveTo>
                    <a:pt x="766" y="273"/>
                  </a:moveTo>
                  <a:lnTo>
                    <a:pt x="383" y="283"/>
                  </a:lnTo>
                  <a:lnTo>
                    <a:pt x="1" y="-493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334920" y="2757600"/>
              <a:ext cx="242640" cy="296640"/>
            </a:xfrm>
            <a:custGeom>
              <a:avLst/>
              <a:gdLst/>
              <a:ahLst/>
              <a:rect l="l" t="t" r="r" b="b"/>
              <a:pathLst>
                <a:path w="678" h="908">
                  <a:moveTo>
                    <a:pt x="678" y="406"/>
                  </a:moveTo>
                  <a:lnTo>
                    <a:pt x="339" y="415"/>
                  </a:lnTo>
                  <a:lnTo>
                    <a:pt x="1" y="-49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42920" y="977760"/>
              <a:ext cx="258480" cy="457200"/>
            </a:xfrm>
            <a:custGeom>
              <a:avLst/>
              <a:gdLst/>
              <a:ahLst/>
              <a:rect l="l" t="t" r="r" b="b"/>
              <a:pathLst>
                <a:path w="722" h="1131">
                  <a:moveTo>
                    <a:pt x="722" y="628"/>
                  </a:moveTo>
                  <a:lnTo>
                    <a:pt x="361" y="638"/>
                  </a:lnTo>
                  <a:lnTo>
                    <a:pt x="1" y="-493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63200" y="939960"/>
              <a:ext cx="253800" cy="160200"/>
            </a:xfrm>
            <a:custGeom>
              <a:avLst/>
              <a:gdLst/>
              <a:ahLst/>
              <a:rect l="l" t="t" r="r" b="b"/>
              <a:pathLst>
                <a:path w="713" h="718">
                  <a:moveTo>
                    <a:pt x="713" y="215"/>
                  </a:moveTo>
                  <a:lnTo>
                    <a:pt x="357" y="225"/>
                  </a:lnTo>
                  <a:lnTo>
                    <a:pt x="1" y="-493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783280" y="2597040"/>
              <a:ext cx="117360" cy="139680"/>
            </a:xfrm>
            <a:custGeom>
              <a:avLst/>
              <a:gdLst/>
              <a:ahLst/>
              <a:rect l="l" t="t" r="r" b="b"/>
              <a:pathLst>
                <a:path w="330" h="690">
                  <a:moveTo>
                    <a:pt x="330" y="192"/>
                  </a:moveTo>
                  <a:lnTo>
                    <a:pt x="165" y="197"/>
                  </a:lnTo>
                  <a:lnTo>
                    <a:pt x="1" y="-493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532720" y="2646360"/>
              <a:ext cx="507600" cy="555480"/>
            </a:xfrm>
            <a:custGeom>
              <a:avLst/>
              <a:gdLst/>
              <a:ahLst/>
              <a:rect l="l" t="t" r="r" b="b"/>
              <a:pathLst>
                <a:path w="1415" h="1267">
                  <a:moveTo>
                    <a:pt x="1415" y="756"/>
                  </a:moveTo>
                  <a:lnTo>
                    <a:pt x="708" y="774"/>
                  </a:lnTo>
                  <a:lnTo>
                    <a:pt x="1" y="-493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66280" y="2441520"/>
              <a:ext cx="388440" cy="666720"/>
            </a:xfrm>
            <a:custGeom>
              <a:avLst/>
              <a:gdLst/>
              <a:ahLst/>
              <a:rect l="l" t="t" r="r" b="b"/>
              <a:pathLst>
                <a:path w="1084" h="1422">
                  <a:moveTo>
                    <a:pt x="1084" y="914"/>
                  </a:moveTo>
                  <a:lnTo>
                    <a:pt x="542" y="929"/>
                  </a:lnTo>
                  <a:lnTo>
                    <a:pt x="1" y="-493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93280" y="2614680"/>
              <a:ext cx="210600" cy="156960"/>
            </a:xfrm>
            <a:custGeom>
              <a:avLst/>
              <a:gdLst/>
              <a:ahLst/>
              <a:rect l="l" t="t" r="r" b="b"/>
              <a:pathLst>
                <a:path w="594" h="714">
                  <a:moveTo>
                    <a:pt x="594" y="213"/>
                  </a:moveTo>
                  <a:lnTo>
                    <a:pt x="297" y="221"/>
                  </a:lnTo>
                  <a:lnTo>
                    <a:pt x="1" y="-493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218800" y="2441520"/>
              <a:ext cx="389880" cy="671400"/>
            </a:xfrm>
            <a:custGeom>
              <a:avLst/>
              <a:gdLst/>
              <a:ahLst/>
              <a:rect l="l" t="t" r="r" b="b"/>
              <a:pathLst>
                <a:path w="1088" h="1428">
                  <a:moveTo>
                    <a:pt x="1088" y="921"/>
                  </a:moveTo>
                  <a:lnTo>
                    <a:pt x="544" y="935"/>
                  </a:lnTo>
                  <a:lnTo>
                    <a:pt x="1" y="-493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412120" y="2666880"/>
              <a:ext cx="63000" cy="95400"/>
            </a:xfrm>
            <a:custGeom>
              <a:avLst/>
              <a:gdLst/>
              <a:ahLst/>
              <a:rect l="l" t="t" r="r" b="b"/>
              <a:pathLst>
                <a:path w="184" h="628">
                  <a:moveTo>
                    <a:pt x="184" y="132"/>
                  </a:moveTo>
                  <a:lnTo>
                    <a:pt x="92" y="135"/>
                  </a:lnTo>
                  <a:lnTo>
                    <a:pt x="1" y="-493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212320" y="2589120"/>
              <a:ext cx="163080" cy="252360"/>
            </a:xfrm>
            <a:custGeom>
              <a:avLst/>
              <a:gdLst/>
              <a:ahLst/>
              <a:rect l="l" t="t" r="r" b="b"/>
              <a:pathLst>
                <a:path w="458" h="846">
                  <a:moveTo>
                    <a:pt x="458" y="347"/>
                  </a:moveTo>
                  <a:lnTo>
                    <a:pt x="229" y="353"/>
                  </a:lnTo>
                  <a:lnTo>
                    <a:pt x="1" y="-493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09440" y="2532240"/>
              <a:ext cx="356760" cy="555480"/>
            </a:xfrm>
            <a:custGeom>
              <a:avLst/>
              <a:gdLst/>
              <a:ahLst/>
              <a:rect l="l" t="t" r="r" b="b"/>
              <a:pathLst>
                <a:path w="996" h="1267">
                  <a:moveTo>
                    <a:pt x="996" y="761"/>
                  </a:moveTo>
                  <a:lnTo>
                    <a:pt x="498" y="774"/>
                  </a:lnTo>
                  <a:lnTo>
                    <a:pt x="1" y="-493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31680" y="2697120"/>
              <a:ext cx="190080" cy="136440"/>
            </a:xfrm>
            <a:custGeom>
              <a:avLst/>
              <a:gdLst/>
              <a:ahLst/>
              <a:rect l="l" t="t" r="r" b="b"/>
              <a:pathLst>
                <a:path w="533" h="685">
                  <a:moveTo>
                    <a:pt x="533" y="185"/>
                  </a:moveTo>
                  <a:lnTo>
                    <a:pt x="267" y="192"/>
                  </a:lnTo>
                  <a:lnTo>
                    <a:pt x="1" y="-493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590520" y="2087640"/>
              <a:ext cx="615600" cy="1000080"/>
            </a:xfrm>
            <a:custGeom>
              <a:avLst/>
              <a:gdLst/>
              <a:ahLst/>
              <a:rect l="l" t="t" r="r" b="b"/>
              <a:pathLst>
                <a:path w="1715" h="1884">
                  <a:moveTo>
                    <a:pt x="1715" y="1369"/>
                  </a:moveTo>
                  <a:lnTo>
                    <a:pt x="858" y="1391"/>
                  </a:lnTo>
                  <a:lnTo>
                    <a:pt x="1" y="-493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388920" y="553680"/>
              <a:ext cx="46800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6857280" y="553680"/>
              <a:ext cx="3139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913360" y="3786120"/>
            <a:ext cx="2371680" cy="4900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293800" y="4437000"/>
            <a:ext cx="102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  <a:ea typeface="DejaVu Sans"/>
              </a:rPr>
              <a:t>СЕМЬЯ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DejaVu Sans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1" name=""/>
          <p:cNvSpPr/>
          <p:nvPr/>
        </p:nvSpPr>
        <p:spPr>
          <a:xfrm>
            <a:off x="8009280" y="479736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DejaVu Sans"/>
              </a:rPr>
              <a:t>ШКОЛА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DejaVu San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0504d"/>
                </a:solidFill>
                <a:latin typeface="Calibri"/>
                <a:ea typeface="Microsoft YaHei"/>
              </a:rPr>
              <a:t>Проблема:</a:t>
            </a: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916280"/>
            <a:ext cx="670716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41280" indent="-341280" algn="just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  <a:ea typeface="Microsoft YaHei"/>
              </a:rPr>
              <a:t>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  <a:ea typeface="Microsoft YaHei"/>
              </a:rPr>
              <a:t>Как сделать общение с родителями живым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 algn="just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  <a:ea typeface="Microsoft YaHei"/>
              </a:rPr>
              <a:t>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  <a:ea typeface="Microsoft YaHei"/>
              </a:rPr>
              <a:t>Как привлечь родителей в школу?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 algn="just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  <a:ea typeface="Microsoft YaHei"/>
              </a:rPr>
              <a:t>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  <a:ea typeface="Microsoft YaHei"/>
              </a:rPr>
              <a:t>Как создать условия, чтобы им захотелось с нами сотрудничать?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 algn="just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  <a:ea typeface="Microsoft YaHei"/>
              </a:rPr>
              <a:t>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  <a:ea typeface="Microsoft YaHei"/>
              </a:rPr>
              <a:t>Как сделать так, чтобы на родительском собрании присутствовали почти все родители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  <a:ea typeface="Microsoft YaHe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 algn="just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974600" cy="2160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7061040" y="4437000"/>
            <a:ext cx="2082960" cy="22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Calibri"/>
                <a:ea typeface="Microsoft YaHei"/>
              </a:rPr>
              <a:t>Основные направления взаимодействия семьи и школы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Calibri"/>
                <a:ea typeface="Microsoft YaHei"/>
              </a:rPr>
              <a:t>1. Изучение условий семейного воспитания. Составление характеристик семей обучающихся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164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Calibri"/>
                <a:ea typeface="Microsoft YaHei"/>
              </a:rPr>
              <a:t>2. Информирование родителей о содержании учебно-воспитательного процесса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164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Calibri"/>
                <a:ea typeface="Microsoft YaHei"/>
              </a:rPr>
              <a:t>3. Психолого-педагогическое просвещение родителей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164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Calibri"/>
                <a:ea typeface="Microsoft YaHei"/>
              </a:rPr>
              <a:t>4. Взаимодействие с родительским комитетом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164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Calibri"/>
                <a:ea typeface="Microsoft YaHei"/>
              </a:rPr>
              <a:t>5. Совместная деятельность родителей и учащихся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164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Calibri"/>
                <a:ea typeface="Microsoft YaHei"/>
              </a:rPr>
              <a:t>6. Информирование родителей о ходе и результатах воспитания, обучения детей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164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Calibri"/>
                <a:ea typeface="Microsoft YaHei"/>
              </a:rPr>
              <a:t>7. Взаимодействия с родителями, входящими в общественные организации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164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Calibri"/>
                <a:ea typeface="Microsoft YaHei"/>
              </a:rPr>
              <a:t>Основные формы работы с семьей в школе: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9" name=""/>
          <p:cNvSpPr/>
          <p:nvPr/>
        </p:nvSpPr>
        <p:spPr>
          <a:xfrm>
            <a:off x="108000" y="1125360"/>
            <a:ext cx="446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  <a:ea typeface="Microsoft YaHei"/>
              </a:rPr>
              <a:t>Индивидуальные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  <a:ea typeface="Microsoft YaHei"/>
              </a:rPr>
              <a:t>Беседы с родителями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  <a:ea typeface="Microsoft YaHei"/>
              </a:rPr>
              <a:t>Консультации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  <a:ea typeface="Microsoft YaHei"/>
              </a:rPr>
              <a:t>Посещение семьи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164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  <a:ea typeface="Microsoft YaHei"/>
              </a:rPr>
              <a:t>Групповые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  <a:ea typeface="Microsoft YaHei"/>
              </a:rPr>
              <a:t>Психолого-педагогическое              просвещение родителей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1640" algn="just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Microsoft YaHei"/>
              </a:rPr>
              <a:t>      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Microsoft YaHei"/>
              </a:rPr>
              <a:t>Важными формами      взаимодействия остаются </a:t>
            </a:r>
            <a:r>
              <a:rPr b="1" lang="ru-RU" sz="2000" spc="-1" strike="noStrike">
                <a:solidFill>
                  <a:srgbClr val="c0504d"/>
                </a:solidFill>
                <a:latin typeface="Calibri"/>
                <a:ea typeface="Microsoft YaHei"/>
              </a:rPr>
              <a:t>дневник ученика 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Microsoft YaHei"/>
              </a:rPr>
              <a:t>и </a:t>
            </a:r>
            <a:r>
              <a:rPr b="1" lang="ru-RU" sz="2000" spc="-1" strike="noStrike">
                <a:solidFill>
                  <a:srgbClr val="c0504d"/>
                </a:solidFill>
                <a:latin typeface="Calibri"/>
                <a:ea typeface="Microsoft YaHei"/>
              </a:rPr>
              <a:t> разговоры 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Microsoft YaHei"/>
              </a:rPr>
              <a:t>с  родителями по телефону    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164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564000" y="1268280"/>
            <a:ext cx="2340000" cy="2016360"/>
          </a:xfrm>
          <a:prstGeom prst="rect">
            <a:avLst/>
          </a:prstGeom>
          <a:ln w="0">
            <a:noFill/>
          </a:ln>
          <a:effectLst>
            <a:outerShdw dist="13898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003640" y="3956040"/>
            <a:ext cx="3921120" cy="2719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059520" y="1262160"/>
            <a:ext cx="2792520" cy="391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4" name=""/>
          <p:cNvSpPr/>
          <p:nvPr/>
        </p:nvSpPr>
        <p:spPr>
          <a:xfrm>
            <a:off x="1763640" y="2133720"/>
            <a:ext cx="6985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  <a:ea typeface="Microsoft YaHei"/>
              </a:rPr>
              <a:t>    </a:t>
            </a:r>
            <a:r>
              <a:rPr b="1" lang="ru-RU" sz="3200" spc="-1" strike="noStrike">
                <a:solidFill>
                  <a:srgbClr val="c0504d"/>
                </a:solidFill>
                <a:latin typeface="Calibri"/>
                <a:ea typeface="Microsoft YaHei"/>
              </a:rPr>
              <a:t>Информирование родителей о деятельности образовательного учреждения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  <a:ea typeface="Microsoft YaHei"/>
              </a:rPr>
              <a:t>является одним из условий организации сотрудничества школы и семьи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14760" cy="2286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 rot="2640000">
            <a:off x="6716520" y="4483080"/>
            <a:ext cx="1903320" cy="227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dur="indefinite" fill="hold">
                      <p:stCondLst>
                        <p:cond delay="0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9528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  <a:ea typeface="Microsoft YaHei"/>
              </a:rPr>
              <a:t>Одой из основных универсальных форм взаимодействие школы с семьями</a:t>
            </a:r>
            <a:r>
              <a:rPr b="0" lang="ru-RU" sz="2800" spc="-1" strike="noStrike">
                <a:solidFill>
                  <a:srgbClr val="4f81bd"/>
                </a:solidFill>
                <a:latin typeface="Calibri"/>
                <a:ea typeface="Microsoft YaHei"/>
              </a:rPr>
              <a:t> являются </a:t>
            </a:r>
            <a:r>
              <a:rPr b="1" lang="ru-RU" sz="2800" spc="-1" strike="noStrike">
                <a:solidFill>
                  <a:srgbClr val="4f81bd"/>
                </a:solidFill>
                <a:latin typeface="Calibri"/>
                <a:ea typeface="Microsoft YaHei"/>
              </a:rPr>
              <a:t>классные родительские собрани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1916280"/>
            <a:ext cx="374328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 algn="just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  <a:ea typeface="Microsoft YaHei"/>
              </a:rPr>
              <a:t>Организационные (при зарождении класса 1кл., при переходе на новую ступень обучения -5кл.)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 algn="just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  <a:ea typeface="Microsoft YaHei"/>
              </a:rPr>
              <a:t>Тематические (выбор темы зависит от возраста учащихся, от актуальности темы)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 algn="just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  <a:ea typeface="Microsoft YaHei"/>
              </a:rPr>
              <a:t>Текущие (решение вопросов успеваемости, воспитательной работы, благоустройство класса и др.)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 algn="just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  <a:ea typeface="Microsoft YaHei"/>
              </a:rPr>
              <a:t>Итоговые (подведение итогов класса по различным направлениям за определенный промежуток времени)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 algn="just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 rot="21000000">
            <a:off x="182160" y="2258640"/>
            <a:ext cx="4932360" cy="2541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411280" y="4653000"/>
            <a:ext cx="2432160" cy="18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400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Calibri"/>
                <a:ea typeface="Microsoft YaHei"/>
              </a:rPr>
              <a:t>Эффективность воспитания ребенка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  <a:ea typeface="Microsoft YaHei"/>
              </a:rPr>
              <a:t>зависит от того, насколько тесно взаимодействуют школа и семья</a:t>
            </a:r>
            <a:r>
              <a:rPr b="1" lang="ru-RU" sz="2400" spc="-1" strike="noStrike">
                <a:solidFill>
                  <a:srgbClr val="c0504d"/>
                </a:solidFill>
                <a:latin typeface="Calibri"/>
                <a:ea typeface="Microsoft YaHei"/>
              </a:rPr>
              <a:t>. А успех сотрудничества семьи и школы 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  <a:ea typeface="Microsoft YaHei"/>
              </a:rPr>
              <a:t>обеспечивается благодаря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2" name=""/>
          <p:cNvSpPr/>
          <p:nvPr/>
        </p:nvSpPr>
        <p:spPr>
          <a:xfrm>
            <a:off x="108000" y="1773360"/>
            <a:ext cx="446400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 algn="just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Calibri"/>
                <a:ea typeface="Microsoft YaHei"/>
              </a:rPr>
              <a:t>педагогическому такту и этике взаимоотношений;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 algn="just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Calibri"/>
                <a:ea typeface="Microsoft YaHei"/>
              </a:rPr>
              <a:t>педагогической подготовленности родителей и уровню их культуры;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 algn="just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Calibri"/>
                <a:ea typeface="Microsoft YaHei"/>
              </a:rPr>
              <a:t>педагогическому просвещению родителей;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 algn="just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Calibri"/>
                <a:ea typeface="Microsoft YaHei"/>
              </a:rPr>
              <a:t>умению видеть сложные взаимоотношения в семье;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 algn="just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Calibri"/>
                <a:ea typeface="Microsoft YaHei"/>
              </a:rPr>
              <a:t>единству требований школы и семьи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164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81440" y="3352680"/>
            <a:ext cx="4486320" cy="6693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9:55:29Z</dcterms:created>
  <dc:creator>V</dc:creator>
  <dc:description/>
  <dc:language>en-US</dc:language>
  <cp:lastModifiedBy/>
  <dcterms:modified xsi:type="dcterms:W3CDTF">2024-01-11T12:28:18Z</dcterms:modified>
  <cp:revision>82</cp:revision>
  <dc:subject/>
  <dc:title>Родительское собра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